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0D07-DA85-4033-9ABE-41F42A57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599F-F556-4418-A15A-6C95889E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BD8B-4FDD-472C-8968-39193881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DA5C-09E6-49A7-B120-5B3081B7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8467-0902-4E8A-AFA8-B11B1DCC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1755-48B8-46C9-9887-B18F2D30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B113-C77C-43D3-B4F3-578D39BF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5AAE-F109-45B2-A815-60E23A3F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2223-8B59-4985-889C-DC3DA902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B181-7332-4E5C-8DD6-60DD1162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74A9-7F7B-4472-8E9B-586B2DB1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9B98-2A1A-42EE-93FD-98665622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F751-091A-4A0D-A865-B98FBC84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25A7-E118-47C1-90CC-891E4B26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4685-62C2-4A54-A8FB-7C7CD0BE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CE73-61C8-4FD0-B038-3F61443E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9DE8-C4A0-49BF-830C-B82ABAE2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8A47-E54F-4A39-8D10-B4219132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B357-90A8-4897-B5E4-DC43A8F3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E283-0D66-4703-BD8F-756A011A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3290-90E5-46F1-B098-BCEC7E14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1BC7-99C3-4D84-97CF-FA85143A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7DE5-CA6C-4208-876E-9817EDAD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26FF-5794-4840-BE6F-91233DFC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51E5-C285-4788-BA33-51E8F7E7B814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97CE-21EC-4AB5-AEDB-E3F6397C0089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4e75"/>
                </a:solidFill>
                <a:latin typeface="Impact"/>
                <a:ea typeface="굴림"/>
              </a:rPr>
              <a:t>KOREAN LANGUAGE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LVEL 1 (NOVICE)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General Course Information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Instructor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4e75"/>
                </a:solidFill>
                <a:latin typeface="Impact"/>
                <a:ea typeface="굴림"/>
              </a:rPr>
              <a:t>Transitional Page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3321720"/>
            <a:ext cx="9144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400" spc="-1" strike="noStrike">
              <a:solidFill>
                <a:srgbClr val="000000"/>
              </a:solidFill>
              <a:latin typeface="Eurostile"/>
              <a:ea typeface="굴림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Your Topic Goes Here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Your subtopic goes here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4e75"/>
                </a:solidFill>
                <a:latin typeface="Impact"/>
                <a:ea typeface="굴림"/>
              </a:rPr>
              <a:t>Elements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www.animationfactory.com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92" name="Picture 224" descr="Z:\newtek\_backgrounds_1.02\Tim\powerpoint templates\101-120\cloud_skipper\cloud_skipper_prt.jpg"/>
          <p:cNvPicPr/>
          <p:nvPr/>
        </p:nvPicPr>
        <p:blipFill>
          <a:blip r:embed="rId1"/>
          <a:stretch/>
        </p:blipFill>
        <p:spPr>
          <a:xfrm>
            <a:off x="6983280" y="5218200"/>
            <a:ext cx="2008440" cy="1506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25" descr="Z:\newtek\_backgrounds_1.02\Tim\powerpoint templates\101-120\cloud_skipper\cloud_skipper_qx.jpg"/>
          <p:cNvPicPr/>
          <p:nvPr/>
        </p:nvPicPr>
        <p:blipFill>
          <a:blip r:embed="rId2"/>
          <a:stretch/>
        </p:blipFill>
        <p:spPr>
          <a:xfrm>
            <a:off x="152280" y="5218200"/>
            <a:ext cx="2008440" cy="1506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26" descr="Z:\newtek\_backgrounds_1.02\Tim\powerpoint templates\101-120\cloud_skipper\cloud_skipper_sld.jpg"/>
          <p:cNvPicPr/>
          <p:nvPr/>
        </p:nvPicPr>
        <p:blipFill>
          <a:blip r:embed="rId3"/>
          <a:stretch/>
        </p:blipFill>
        <p:spPr>
          <a:xfrm>
            <a:off x="2428920" y="5218200"/>
            <a:ext cx="2009880" cy="1506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7" descr="Z:\newtek\_backgrounds_1.02\Tim\powerpoint templates\101-120\cloud_skipper\cloud_skipper_trs.jpg"/>
          <p:cNvPicPr/>
          <p:nvPr/>
        </p:nvPicPr>
        <p:blipFill>
          <a:blip r:embed="rId4"/>
          <a:stretch/>
        </p:blipFill>
        <p:spPr>
          <a:xfrm>
            <a:off x="4705200" y="5218200"/>
            <a:ext cx="2009880" cy="150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jyy</cp:lastModifiedBy>
  <dcterms:modified xsi:type="dcterms:W3CDTF">2012-07-26T08:41:49Z</dcterms:modified>
  <cp:revision>1</cp:revision>
  <dc:subject/>
  <dc:title>KOREAN LANGUAGE</dc:title>
</cp:coreProperties>
</file>